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9A29-F4FA-43F1-B2A7-C02E88166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0B50-0760-4897-878F-E1BF82DBF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F28C-E392-426F-B8AF-B52DB863B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24E6-65B2-4AAA-94B6-3E8EBC239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025862-483B-4A59-AEB7-9DD180534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80BE7B-7FC9-46E2-BB80-921B1A964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29AF41-F137-4E1E-B61A-74B690287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8A4D5D-470E-4EB2-B28E-68BBCA804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B1B4EE-B6F0-4437-80BD-2DFED34B7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6B0F1D-4EF1-4771-B447-8680DF8D1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034DC8-78F4-4547-9B25-AF5419DA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B2A2-DCCF-4B18-8394-A48C87414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2B15A9-9AEB-4929-82FE-57529127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57905D-46D1-4568-932C-EB3D11D8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359E78-381E-4D5B-BBDA-0537867E2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55F998-4F02-4CE8-AEED-47C49D1B3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BC4A48-30A2-4CDA-B15C-D2A88D351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4F98-2E5C-428E-AD76-3AF25051F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92DF-BA89-455B-A568-261052293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B2A7-0332-49F0-87E0-1052E1241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3633-15B8-4459-A047-9F3707290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9058-C1B7-40D2-A6D0-DE847A63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5633-6E8C-40CF-900C-80BF367F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4FD9-2D47-4B73-B47A-83CEC8C1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EFB70-6A4C-416C-BEF2-487130A7A59A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8E609-86C5-4C41-9C20-9283C9B21478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ESENCIA Y EXISTENCIA – SER/ESTAR/ HAB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6705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S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Cuando nos ubicamos en el plano de la definición usamos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s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EST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Para hablar de algo que ya se ha mencionado y para localizar en el espacio se usa estar+ defini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Usamos </a:t>
            </a:r>
            <a:r>
              <a:rPr b="1" lang="es-ES" sz="3200" spc="-1" strike="noStrike">
                <a:solidFill>
                  <a:srgbClr val="ff5050"/>
                </a:solidFill>
                <a:latin typeface="Verdana"/>
              </a:rPr>
              <a:t>Estar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: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para localizar en el espacio algo cuya existencia se presupone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(La tienda de Pepe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tá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en calle san Jua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n construcción absoluta, cuando tiene el sentido de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estar presente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 o de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estar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listo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¿ Puedo hablar con Julio?Lo siento, no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tá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¿ Ya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tá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? ¿Nos podemos ir?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Para describir personas u ojet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-  si queremos presentar la descripción como algo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objetiv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usamos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Ser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(Juan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alto – aquellos niños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son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travieso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- cuando la persona que habla está formulando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apreciaciones subjetiva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se usa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Estar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tá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muy guapa: ¿ te has cortado el pelo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La comida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tá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riquísi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Valoración de una actividad o un períod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presentada de manera fría y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objetiva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se usa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ser+ frase nominal/adjetivo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una chica muy simpátic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n las descripciones, con los adjetivos que presentan algo como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temporal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, se usa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Est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tá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muy nervioso. - ! Qué pesado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tá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Para presentar características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inherente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al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sujet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se usa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Ser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muy inteligente /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un pesado /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Por esto hay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adjetivo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que se usan sólo con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Estar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(contento, embarazada, resfriado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y otros que se emplean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más a menud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con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Ser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(asequible, incomprensible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a elección entre ser y estar depende principalmente de la voluntad por parte del hablante de relativizar más o men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Generalmente,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ser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tiende a presentar las cosas de manera más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fría y objetiva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estar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denota una fuerte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participación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del hablante. (experiencias vividas en primera persona por el hablante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Con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ser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, el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hablante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se presenta a sí mismo como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elemento extern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, que se limita a contatar cosas que no dependen de é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Según Silvia Gumiel Molina( doctora en Filología Hispánica por la Universidad de Alcalá) los predicados se pueden dividir  en dos tipos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5050"/>
                </a:solidFill>
                <a:uFillTx/>
                <a:latin typeface="Verdana"/>
              </a:rPr>
              <a:t>predicados de estadio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 </a:t>
            </a:r>
            <a:r>
              <a:rPr b="0" lang="es-ES" sz="2800" spc="-1" strike="noStrike" u="sng">
                <a:solidFill>
                  <a:srgbClr val="ff5050"/>
                </a:solidFill>
                <a:uFillTx/>
                <a:latin typeface="Verdana"/>
              </a:rPr>
              <a:t>predicados de individu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04920" y="380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os predicados de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estadi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se combinarán siempre con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estar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os predicados de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individu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siempre con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ser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ntre los predicados de indididuo hay dos grupos: los </a:t>
            </a:r>
            <a:r>
              <a:rPr b="0" lang="es-ES" sz="2800" spc="-1" strike="noStrike" u="sng">
                <a:solidFill>
                  <a:srgbClr val="ff5050"/>
                </a:solidFill>
                <a:uFillTx/>
                <a:latin typeface="Verdana"/>
              </a:rPr>
              <a:t>fácilmente coaccionable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(que pueden combinarse con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ser y estar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os </a:t>
            </a:r>
            <a:r>
              <a:rPr b="0" lang="es-ES" sz="2800" spc="-1" strike="noStrike" u="sng">
                <a:solidFill>
                  <a:srgbClr val="ff5050"/>
                </a:solidFill>
                <a:uFillTx/>
                <a:latin typeface="Verdana"/>
              </a:rPr>
              <a:t>difícilmente coaccionable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, que se combinan con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ser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pero pueden combinarse también con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estar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si hay algún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otro element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que los ancla temporalme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(¡Qué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inteligente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que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tán hoy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mis alumnos!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81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a través del mecanismo de la 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coacción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algunos 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predicados de individu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se transforman en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predicados de estadio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os 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predicados de individu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categorizan individuos como pertenecientes a una clase específica y se combinan con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Ser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Son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adjetivos con propiedades clasificatoria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ser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joven, estudiante, italiano, cauto, constante, (des)cortés, (des)leal, (in)capaz, inteligente, odioso, sabio, temerari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os predicados de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estadi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sitúan al individuo en 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tiempo y espaci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 determinados y se combinan con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Estar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el chico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tá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borracho,enfadado, nervioso, triste, en Roma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Hay dos grupos de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adjetivos de individu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os que se combinan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fácilmente con estar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(alegre, alto, feo, flaco, hermoso, nervioso, tranquil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os que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necesitan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de algún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elemento léxic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(un elemento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temporal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como “hoy” o de estar en una oración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exclamativa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) para la coac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Hoy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los alumnos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tán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muy inteligent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- ¡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Qué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inteligentes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tán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mis alumnos!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5050"/>
                </a:solidFill>
                <a:latin typeface="Tahoma"/>
              </a:rPr>
              <a:t>H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ara hablar de la existencia de algo se usa </a:t>
            </a:r>
            <a:r>
              <a:rPr b="0" lang="es-ES" sz="2800" spc="-1" strike="noStrike" u="sng">
                <a:solidFill>
                  <a:srgbClr val="ff5050"/>
                </a:solidFill>
                <a:uFillTx/>
                <a:latin typeface="Tahoma"/>
              </a:rPr>
              <a:t>hay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s-ES" sz="2800" spc="-1" strike="noStrike">
                <a:solidFill>
                  <a:srgbClr val="ff5050"/>
                </a:solidFill>
                <a:latin typeface="Tahoma"/>
              </a:rPr>
              <a:t>forma irregular del verbo haber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: En los tiempos diferentes del presente se usa la </a:t>
            </a:r>
            <a:r>
              <a:rPr b="0" lang="es-ES" sz="2800" spc="-1" strike="noStrike">
                <a:solidFill>
                  <a:srgbClr val="ff5050"/>
                </a:solidFill>
                <a:latin typeface="Tahoma"/>
              </a:rPr>
              <a:t>tercera persona singul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e usa esta forma para introducir en el contexto </a:t>
            </a:r>
            <a:r>
              <a:rPr b="0" lang="es-ES" sz="2800" spc="-1" strike="noStrike">
                <a:solidFill>
                  <a:srgbClr val="ff5050"/>
                </a:solidFill>
                <a:latin typeface="Tahoma"/>
              </a:rPr>
              <a:t>algo que todavía no se ha mencionado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, para darle o negarle existenc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os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Gerundio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se construyen sólo con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estar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, dado que denotan eventos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acotados temporalmente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(por lo tanto son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predicados de estadi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os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Participio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se pueden combinar con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ser y estar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Se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combinan con Se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participios que indican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Estad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no anclados temporalmente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–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Tu mujer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 amada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por otro homb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participios que indican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Proces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: verbos de duración que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n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tienen delimitación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El perro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ha sido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acariciad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Se combinan tanto con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Ser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como con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Estar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participios que indican eventos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delimitado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La puerta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tá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abierta – La puerta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ha sido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abierta (por alguie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04560" y="152280"/>
            <a:ext cx="830556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as frases con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ser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son de carácter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imperfectiv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as frases con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tar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son de carácter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perfectivo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lamamos </a:t>
            </a:r>
            <a:r>
              <a:rPr b="0" lang="es-ES" sz="2800" spc="-1" strike="noStrike" u="sng">
                <a:solidFill>
                  <a:srgbClr val="ff5050"/>
                </a:solidFill>
                <a:uFillTx/>
                <a:latin typeface="Verdana"/>
              </a:rPr>
              <a:t>perfectivas las acciones de duración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r>
              <a:rPr b="0" lang="es-ES" sz="2800" spc="-1" strike="noStrike" u="sng">
                <a:solidFill>
                  <a:srgbClr val="ff5050"/>
                </a:solidFill>
                <a:uFillTx/>
                <a:latin typeface="Verdana"/>
              </a:rPr>
              <a:t>limitada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Verdana"/>
              </a:rPr>
              <a:t>,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que necesitan llegar a su final, a su perfección para producir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ej: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disparar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o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morir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que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sólo se conciben en su acabamiento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lamamos </a:t>
            </a:r>
            <a:r>
              <a:rPr b="0" lang="es-ES" sz="2800" spc="-1" strike="noStrike" u="sng">
                <a:solidFill>
                  <a:srgbClr val="ff5050"/>
                </a:solidFill>
                <a:uFillTx/>
                <a:latin typeface="Verdana"/>
              </a:rPr>
              <a:t>imperfectivas las acciones de duración ilimitada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, que pueden poducirse sin llegar a su término temporal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querer, saber, conocer, respetar)</a:t>
            </a:r>
            <a:r>
              <a:rPr b="0" i="1" lang="es-ES" sz="2400" spc="-1" strike="noStrike">
                <a:solidFill>
                  <a:srgbClr val="ff505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6091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Para Silvia Gumiel Molina las oraciones con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ser y estar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no expresan acciones, sino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cualidade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del suje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a cualidad que se atribuye a un sujeto se puede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enunciar en sí misma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sin atender a su origen(en este caso 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se usa el verbo </a:t>
            </a:r>
            <a:r>
              <a:rPr b="0" i="1" lang="es-ES" sz="3200" spc="-1" strike="noStrike">
                <a:solidFill>
                  <a:srgbClr val="ff5050"/>
                </a:solidFill>
                <a:latin typeface="Verdana"/>
              </a:rPr>
              <a:t>ser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porque interesa su duración o </a:t>
            </a:r>
            <a:r>
              <a:rPr b="0" lang="es-ES" sz="3200" spc="-1" strike="noStrike">
                <a:solidFill>
                  <a:srgbClr val="ff5050"/>
                </a:solidFill>
                <a:latin typeface="Verdana"/>
              </a:rPr>
              <a:t>permanencia) 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por tanto, es </a:t>
            </a:r>
            <a:r>
              <a:rPr b="0" lang="es-ES" sz="3200" spc="-1" strike="noStrike">
                <a:solidFill>
                  <a:srgbClr val="ff5050"/>
                </a:solidFill>
                <a:latin typeface="Verdana"/>
              </a:rPr>
              <a:t>imperfectiva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la ventana </a:t>
            </a:r>
            <a:r>
              <a:rPr b="0" i="1" lang="es-ES" sz="3200" spc="-1" strike="noStrike">
                <a:solidFill>
                  <a:srgbClr val="ff5050"/>
                </a:solidFill>
                <a:latin typeface="Verdana"/>
              </a:rPr>
              <a:t>es nue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o se puede considerar como el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resultado de una acción o cambio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n este caso se usa el verbo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tar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porque se percibe como efecto  de una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transformación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, por tanto es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perfectiva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a transformación puede ser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rea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la ventana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tá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rota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o supuesta, sin que se haya producid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la ventana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tá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intacta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porque se piensa que habría podido ocurrir algún accidente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usamos en español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tar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cuando pensamos que la cualidad es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resultado de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un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devenir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real o supuesto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Basta con que, al enunciar una cualidad, haya en nuestro pensamiento una leve suposición de que ha podido ser causada por una acción o cambio, por algún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devenir,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para que empleemos el verbo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tar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04560" y="380880"/>
            <a:ext cx="83818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jemplos del cambio real o supuesto efecto de un devenir ocurrido   en el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pasad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tar roto, intacto, maduro, hermoso, muer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n el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presente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tar cayendo, lloviendo, entrando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.(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siempre con gerundio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n el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futur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tar por ver, por barrer, sin venir, para entrar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.(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perífrasis que expresa futur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Ser alegre, triste, melancólico, risueño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se refiere al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carácter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de una persona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con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estar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significarían una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alteración que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devien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Para saber si se ha producido  cambio, nos valemos generalmente de la experiencia, de modo que los </a:t>
            </a:r>
            <a:r>
              <a:rPr b="0" lang="es-ES" sz="3200" spc="-1" strike="noStrike">
                <a:solidFill>
                  <a:srgbClr val="ff5050"/>
                </a:solidFill>
                <a:latin typeface="Verdana"/>
              </a:rPr>
              <a:t>juicios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que </a:t>
            </a:r>
            <a:r>
              <a:rPr b="0" lang="es-ES" sz="3200" spc="-1" strike="noStrike">
                <a:solidFill>
                  <a:srgbClr val="ff5050"/>
                </a:solidFill>
                <a:latin typeface="Verdana"/>
              </a:rPr>
              <a:t>dependen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inmediatamente </a:t>
            </a:r>
            <a:r>
              <a:rPr b="0" lang="es-ES" sz="3200" spc="-1" strike="noStrike">
                <a:solidFill>
                  <a:srgbClr val="ff5050"/>
                </a:solidFill>
                <a:latin typeface="Verdana"/>
              </a:rPr>
              <a:t>de nuestra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ff5050"/>
                </a:solidFill>
                <a:latin typeface="Verdana"/>
              </a:rPr>
              <a:t>experiencia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se expresan con </a:t>
            </a:r>
            <a:r>
              <a:rPr b="0" i="1" lang="es-ES" sz="3200" spc="-1" strike="noStrike">
                <a:solidFill>
                  <a:srgbClr val="ff5050"/>
                </a:solidFill>
                <a:latin typeface="Verdana"/>
              </a:rPr>
              <a:t>estar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veo que un niño ha crecido y digo que </a:t>
            </a:r>
            <a:r>
              <a:rPr b="0" i="1" lang="es-ES" sz="3200" spc="-1" strike="noStrike">
                <a:solidFill>
                  <a:srgbClr val="ff5050"/>
                </a:solidFill>
                <a:latin typeface="Verdana"/>
              </a:rPr>
              <a:t>está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 alto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pruebo el café y digo que </a:t>
            </a:r>
            <a:r>
              <a:rPr b="0" i="1" lang="es-ES" sz="3200" spc="-1" strike="noStrike">
                <a:solidFill>
                  <a:srgbClr val="ff5050"/>
                </a:solidFill>
                <a:latin typeface="Verdana"/>
              </a:rPr>
              <a:t>está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 frío.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En el ejemplo siguiente, el enunciador está expresando una valoración sobre lo que está comiendo; es decir que parte de su experiencia person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Está todo muy rico.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5050"/>
                </a:solidFill>
                <a:latin typeface="Tahoma"/>
              </a:rPr>
              <a:t>Matte Bon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afirm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s interesante notar que, cuando el enunciador </a:t>
            </a:r>
            <a:r>
              <a:rPr b="0" lang="es-ES" sz="3200" spc="-1" strike="noStrike">
                <a:solidFill>
                  <a:srgbClr val="ff5050"/>
                </a:solidFill>
                <a:latin typeface="Tahoma"/>
              </a:rPr>
              <a:t>presenta cosas nueva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y se sitúa en el nivel de las </a:t>
            </a:r>
            <a:r>
              <a:rPr b="0" lang="es-ES" sz="3200" spc="-1" strike="noStrike">
                <a:solidFill>
                  <a:srgbClr val="ff5050"/>
                </a:solidFill>
                <a:latin typeface="Tahoma"/>
              </a:rPr>
              <a:t>definicione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—es decir, </a:t>
            </a:r>
            <a:r>
              <a:rPr b="0" lang="es-ES" sz="3200" spc="-1" strike="noStrike">
                <a:solidFill>
                  <a:srgbClr val="ff5050"/>
                </a:solidFill>
                <a:latin typeface="Tahoma"/>
              </a:rPr>
              <a:t>fuera del tiempo y del espacio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en los que se produce la enunciación—, las </a:t>
            </a:r>
            <a:r>
              <a:rPr b="0" lang="es-ES" sz="3200" spc="-1" strike="noStrike">
                <a:solidFill>
                  <a:srgbClr val="ff5050"/>
                </a:solidFill>
                <a:latin typeface="Tahoma"/>
              </a:rPr>
              <a:t>coordenadas espaciale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, como las </a:t>
            </a:r>
            <a:r>
              <a:rPr b="0" lang="es-ES" sz="3200" spc="-1" strike="noStrike">
                <a:solidFill>
                  <a:srgbClr val="ff5050"/>
                </a:solidFill>
                <a:latin typeface="Tahoma"/>
              </a:rPr>
              <a:t>temporale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, se expresan con </a:t>
            </a:r>
            <a:r>
              <a:rPr b="0" i="1" lang="es-ES" sz="3200" spc="-1" strike="noStrike">
                <a:solidFill>
                  <a:srgbClr val="ff5050"/>
                </a:solidFill>
                <a:latin typeface="Tahoma"/>
              </a:rPr>
              <a:t>ser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Para usar este operador de manera adecuada es necesario entender bien el concepto gramatical de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indefinid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, que no significa cosas imprecisas, sino cosas que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todavía no han aparecido en el contexto, por lo tanto se encuentran en su primera mención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Por ejemplo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tre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personas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s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indefinid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mientras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las tres/esas tre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persona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es definido porque se refiere a algo ya mencionado ant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A.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¿Dónde vives?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B.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En Zagarolo.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A.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¿Y eso dónde </a:t>
            </a:r>
            <a:r>
              <a:rPr b="0" i="1" lang="es-ES" sz="2800" spc="-1" strike="noStrike">
                <a:solidFill>
                  <a:srgbClr val="ff0000"/>
                </a:solidFill>
                <a:latin typeface="Verdana"/>
                <a:ea typeface="Verdana"/>
              </a:rPr>
              <a:t>e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?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En el ejemplo el enunciador no ha «reconocido» el nombre del lug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Por este motivo, en lugar de pedirle a su interlocutor que se lo coloque simplemente en el espacio, le pide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  <a:ea typeface="Verdana"/>
              </a:rPr>
              <a:t>una definición en términos espacia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os juicios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generale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, independientes de nuestra experiencia inmediata se formulan con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ser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la nieve </a:t>
            </a:r>
            <a:r>
              <a:rPr b="0" i="1" lang="es-ES" sz="2800" spc="-1" strike="noStrike">
                <a:solidFill>
                  <a:srgbClr val="ff0000"/>
                </a:solidFill>
                <a:latin typeface="Verdana"/>
              </a:rPr>
              <a:t>e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fría, el agua </a:t>
            </a:r>
            <a:r>
              <a:rPr b="0" i="1" lang="es-ES" sz="2800" spc="-1" strike="noStrike">
                <a:solidFill>
                  <a:srgbClr val="ff0000"/>
                </a:solidFill>
                <a:latin typeface="Verdana"/>
              </a:rPr>
              <a:t>e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transpare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El café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amargo / Este café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tá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dul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El agua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transparente / El agua de este río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tá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turbi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3520" y="6091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Cuando, como en (87), nos hallamos ante una valoración a la que el enunciador quiere conferir un carácter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universal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y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objetiv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, para que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no parezca que él está hablando de su experiencia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, de su percepción de la realidad, usa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ser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en lugar de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estar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, escondiéndose en cierta medida tras sus palabras, como si dijera: «No lo digo yo, no es una valoración mía, todo el mundo lo puede ver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87)</a:t>
            </a:r>
            <a:r>
              <a:rPr b="0" i="1" lang="es-ES" sz="2800" spc="-1" strike="noStrike">
                <a:solidFill>
                  <a:srgbClr val="ff0000"/>
                </a:solidFill>
                <a:latin typeface="Verdana"/>
              </a:rPr>
              <a:t>E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muy simpática. / </a:t>
            </a:r>
            <a:r>
              <a:rPr b="0" i="1" lang="es-ES" sz="2800" spc="-1" strike="noStrike">
                <a:solidFill>
                  <a:srgbClr val="ff0000"/>
                </a:solidFill>
                <a:latin typeface="Verdana"/>
              </a:rPr>
              <a:t>E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insoportable.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ste tipo de enunciado (con ser) se produce con mayor frecuencia cuando nos hablan de </a:t>
            </a:r>
            <a:r>
              <a:rPr b="0" lang="es-ES" sz="3200" spc="-1" strike="noStrike">
                <a:solidFill>
                  <a:srgbClr val="ff5050"/>
                </a:solidFill>
                <a:latin typeface="Tahoma"/>
              </a:rPr>
              <a:t>persona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a las que </a:t>
            </a:r>
            <a:r>
              <a:rPr b="0" lang="es-ES" sz="3200" spc="-1" strike="noStrike">
                <a:solidFill>
                  <a:srgbClr val="ff5050"/>
                </a:solidFill>
                <a:latin typeface="Tahoma"/>
              </a:rPr>
              <a:t>no conocemo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o cuando se está </a:t>
            </a:r>
            <a:r>
              <a:rPr b="0" lang="es-ES" sz="3200" spc="-1" strike="noStrike">
                <a:solidFill>
                  <a:srgbClr val="ff0000"/>
                </a:solidFill>
                <a:latin typeface="Tahoma"/>
              </a:rPr>
              <a:t>describiendo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el carácter de alguien (es decir, que se </a:t>
            </a:r>
            <a:r>
              <a:rPr b="0" lang="es-ES" sz="3200" spc="-1" strike="noStrike">
                <a:solidFill>
                  <a:srgbClr val="ff5050"/>
                </a:solidFill>
                <a:latin typeface="Tahoma"/>
              </a:rPr>
              <a:t>está informando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sobre ese alguien o negociando informaciones nuevas que le conciernen; en esos casos, tendemos a presentar las cosas como </a:t>
            </a:r>
            <a:r>
              <a:rPr b="0" lang="es-ES" sz="3200" spc="-1" strike="noStrike">
                <a:solidFill>
                  <a:srgbClr val="ff0000"/>
                </a:solidFill>
                <a:latin typeface="Tahoma"/>
              </a:rPr>
              <a:t>objetivas)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 mismo tipo de enunciado puede producirse también en una situación en la que se </a:t>
            </a:r>
            <a:r>
              <a:rPr b="0" lang="es-ES" sz="3200" spc="-1" strike="noStrike">
                <a:solidFill>
                  <a:srgbClr val="ff5050"/>
                </a:solidFill>
                <a:latin typeface="Tahoma"/>
              </a:rPr>
              <a:t>valora lo que se ha podido observar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y lo que se sabe sobre una persona (por ejemplo, al final de una fiesta)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(88)</a:t>
            </a:r>
            <a:br>
              <a:rPr sz="3200"/>
            </a:b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Por fin he conocido a Andrea. </a:t>
            </a:r>
            <a:r>
              <a:rPr b="0" i="1" lang="es-ES" sz="3200" spc="-1" strike="noStrike">
                <a:solidFill>
                  <a:srgbClr val="ff0000"/>
                </a:solidFill>
                <a:latin typeface="Tahoma"/>
              </a:rPr>
              <a:t>Es 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muy simpática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28240" y="8380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En este contexto también se están presentando o negociando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  <a:ea typeface="Verdana"/>
              </a:rPr>
              <a:t>informacione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 que se pretende que sean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  <a:ea typeface="Verdana"/>
              </a:rPr>
              <a:t>objetiva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 (aunque también son valoraciones encubiertas) y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  <a:ea typeface="Verdana"/>
              </a:rPr>
              <a:t>desvinculadas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 de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  <a:ea typeface="Verdana"/>
              </a:rPr>
              <a:t>nuestra experiencia personal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 y del conocimiento previo que tenemos o teníamos del suje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Es interesante señalar que en este mismo contexto el enunciado también podría se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Por fin he conocido a Andrea. Me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  <a:ea typeface="Verdana"/>
              </a:rPr>
              <a:t>ha parecido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 muy simpática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con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parecer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me parece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me ha parecid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) el enunciador presenta su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valoración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como algo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nuev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y sin ninguna relación con nada previo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con </a:t>
            </a:r>
            <a:r>
              <a:rPr b="1" i="1" lang="es-ES" sz="2800" spc="-1" strike="noStrike">
                <a:solidFill>
                  <a:srgbClr val="ff5050"/>
                </a:solidFill>
                <a:latin typeface="Verdana"/>
              </a:rPr>
              <a:t>estar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la presenta </a:t>
            </a:r>
            <a:r>
              <a:rPr b="1" i="1" lang="es-ES" sz="2800" spc="-1" strike="noStrike">
                <a:solidFill>
                  <a:srgbClr val="ff5050"/>
                </a:solidFill>
                <a:latin typeface="Verdana"/>
              </a:rPr>
              <a:t>en relación</a:t>
            </a: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 con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 sus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conocimientos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previo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(lo que ya sabía), que no dejan de tener vigenci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5050"/>
                </a:solidFill>
                <a:latin typeface="Verdana"/>
              </a:rPr>
              <a:t>Usos de ser/estar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a.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Ser para identificar el sujeto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: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¿Qué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?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¿Quién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?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¿Cuál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- ¿Qué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se muchacho?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ingeniero técn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¿Quién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se muchacho?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uis, el hermano de An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? Cuál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l coche de tu amigo?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l primero de la derech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Estar para situar el sujet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¿Dónde </a:t>
            </a: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está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5050"/>
                </a:solidFill>
                <a:uFillTx/>
                <a:latin typeface="Verdana"/>
              </a:rPr>
              <a:t>Lugar real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Madrid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tá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n el centro de España.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tamo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n cas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o </a:t>
            </a:r>
            <a:r>
              <a:rPr b="1" lang="es-ES" sz="2800" spc="-1" strike="noStrike" u="sng">
                <a:solidFill>
                  <a:srgbClr val="ff5050"/>
                </a:solidFill>
                <a:uFillTx/>
                <a:latin typeface="Verdana"/>
              </a:rPr>
              <a:t>figurad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l termómetro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tá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a diez grado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os valores ferroviarios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tán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muy baj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5050"/>
                </a:solidFill>
                <a:latin typeface="Verdana"/>
              </a:rPr>
              <a:t>Ser 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sirve también para situar  acontecimientos en un lugar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La conferencia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será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n el Aula Magn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o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en el tiemp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La conferencia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será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l día 17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n estos casos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ser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quivale a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suceder, ocurrir, celebrarse, tener lug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l verbo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haber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se combina con elementos que sirven para hablar de objetos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no identificables por el oyent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En mi ciudad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hay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mucho tráf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–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En la fiesta de Marisa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había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más de cien persona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- ¿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Hay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una farmacia cerca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Por lo tanto, cuando se trata de hacer referencia a una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localización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, hay que 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fijarse en el sujet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si 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el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sujeto es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personal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 o un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objeto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 se utiliza el verbo </a:t>
            </a:r>
            <a:r>
              <a:rPr b="1" i="1" lang="es-ES" sz="2800" spc="-1" strike="noStrike">
                <a:solidFill>
                  <a:srgbClr val="ff5050"/>
                </a:solidFill>
                <a:latin typeface="Verdana"/>
              </a:rPr>
              <a:t>estar</a:t>
            </a: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Nápoles está en Campania – Ana está en la coci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si 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el sujeto es un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acontecimiento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 hay que utilizar el verbo </a:t>
            </a:r>
            <a:r>
              <a:rPr b="1" i="1" lang="es-ES" sz="2800" spc="-1" strike="noStrike">
                <a:solidFill>
                  <a:srgbClr val="ff5050"/>
                </a:solidFill>
                <a:latin typeface="Verdana"/>
              </a:rPr>
              <a:t>ser</a:t>
            </a: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El concierto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en el teatro San Carl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Ante  los siguientes ejemplos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os exámenes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tán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n la Sala de Alumnos”  y “Los exámenes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son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n la Sala de Alumnos” 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n el 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primer caso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hay que interpretar el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sujeto como  un objet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, (el papel en el cual está escrito el contenido del examen)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n el 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segundo caso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se hace referencia a la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realización del mism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Cuando atribuimos al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sujeto la cualidad expresada por un adjetiv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, el verbo puede ser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ser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 o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estar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¿Cómo es ? ¿Cómo está?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Ser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: Atribuye al sujeto una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cualidad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 que le corresponde por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naturaleza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, expresa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características permanentes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 del sujet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por ejemplo, descripciones personales tales como alto, bajo, guapo (incluso: feliz, viejo, rico, pobre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28240" y="10663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Se usa </a:t>
            </a:r>
            <a:r>
              <a:rPr b="1" lang="es-ES" sz="3200" spc="-1" strike="noStrike">
                <a:solidFill>
                  <a:srgbClr val="ff5050"/>
                </a:solidFill>
                <a:latin typeface="Verdana"/>
              </a:rPr>
              <a:t>ser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también con </a:t>
            </a:r>
            <a:r>
              <a:rPr b="1" lang="es-ES" sz="3200" spc="-1" strike="noStrike">
                <a:solidFill>
                  <a:srgbClr val="ff5050"/>
                </a:solidFill>
                <a:latin typeface="Verdana"/>
              </a:rPr>
              <a:t>adjetivos de color, forma, tamaño, nacionalidad, religión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, etc., y nombres que indican </a:t>
            </a:r>
            <a:r>
              <a:rPr b="1" lang="es-ES" sz="3200" spc="-1" strike="noStrike">
                <a:solidFill>
                  <a:srgbClr val="ff5050"/>
                </a:solidFill>
                <a:latin typeface="Verdana"/>
              </a:rPr>
              <a:t>profesión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Es azul, redondo, pequeño, inglés, catól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Es médico, abogado, profes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La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  <a:ea typeface="Verdana"/>
              </a:rPr>
              <a:t>posición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del sujeto en una serie normalmente se expresa con </a:t>
            </a:r>
            <a:r>
              <a:rPr b="1" i="1" lang="es-ES" sz="2800" spc="-1" strike="noStrike">
                <a:solidFill>
                  <a:srgbClr val="ff5050"/>
                </a:solidFill>
                <a:latin typeface="Verdana"/>
                <a:ea typeface="Verdana"/>
              </a:rPr>
              <a:t>ser</a:t>
            </a:r>
            <a:r>
              <a:rPr b="1" i="1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, 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pero cuando esta posición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  <a:ea typeface="Verdana"/>
              </a:rPr>
              <a:t>no es definitiva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, puede aparecer </a:t>
            </a:r>
            <a:r>
              <a:rPr b="1" i="1" lang="es-ES" sz="2800" spc="-1" strike="noStrike">
                <a:solidFill>
                  <a:srgbClr val="ff5050"/>
                </a:solidFill>
                <a:latin typeface="Verdana"/>
                <a:ea typeface="Verdana"/>
              </a:rPr>
              <a:t>estar</a:t>
            </a:r>
            <a:r>
              <a:rPr b="1" i="1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El uso de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  <a:ea typeface="Verdana"/>
              </a:rPr>
              <a:t>estar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enfatiza el carácter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  <a:ea typeface="Verdana"/>
              </a:rPr>
              <a:t>provisional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  <a:ea typeface="Verdan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por eso se emplea, por ejemplo, durante el desarrollo de una competición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Aunque en la clasificación final quedó del diez para atrás, llegó a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  <a:ea typeface="Verdana"/>
              </a:rPr>
              <a:t>estar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 el cuarto. El caballo responde; de momento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  <a:ea typeface="Verdana"/>
              </a:rPr>
              <a:t>está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 el segun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Ser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, en cambio, se usa para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identificar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, por su puesto en una serie, algo o a alguien que el interlocutor no cono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Es el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primero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de la lista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Hay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cualidades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 que sólo admiten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ser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o que admiten preferentemente ser)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y 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otras que solo admiten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estar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o que admiten preferentemente estar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Por ejemplo generalmente usamos </a:t>
            </a:r>
            <a:r>
              <a:rPr b="1" i="1" lang="es-ES" sz="2800" spc="-1" strike="noStrike">
                <a:solidFill>
                  <a:srgbClr val="ff5050"/>
                </a:solidFill>
                <a:latin typeface="Verdana"/>
              </a:rPr>
              <a:t>s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Cuand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indicamos 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una </a:t>
            </a:r>
            <a:r>
              <a:rPr b="1" i="1" lang="es-ES" sz="2800" spc="-1" strike="noStrike">
                <a:solidFill>
                  <a:srgbClr val="ff5050"/>
                </a:solidFill>
                <a:latin typeface="Verdana"/>
              </a:rPr>
              <a:t>necesidad</a:t>
            </a: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u </a:t>
            </a:r>
            <a:r>
              <a:rPr b="1" i="1" lang="es-ES" sz="2800" spc="-1" strike="noStrike">
                <a:solidFill>
                  <a:srgbClr val="ff5050"/>
                </a:solidFill>
                <a:latin typeface="Verdana"/>
              </a:rPr>
              <a:t>oblig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 preciso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llegar a tiemp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hacemos referencia a una </a:t>
            </a:r>
            <a:r>
              <a:rPr b="1" i="1" lang="es-ES" sz="2800" spc="-1" strike="noStrike">
                <a:solidFill>
                  <a:srgbClr val="ff5050"/>
                </a:solidFill>
                <a:latin typeface="Verdana"/>
              </a:rPr>
              <a:t>norma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 justo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pedir permiso ante de hab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encuadramos al sujeto en una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clas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un obrero especializ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expresamos </a:t>
            </a:r>
            <a:r>
              <a:rPr b="1" i="1" lang="es-ES" sz="2800" spc="-1" strike="noStrike">
                <a:solidFill>
                  <a:srgbClr val="ff5050"/>
                </a:solidFill>
                <a:latin typeface="Verdana"/>
              </a:rPr>
              <a:t>aversión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o </a:t>
            </a:r>
            <a:r>
              <a:rPr b="1" i="1" lang="es-ES" sz="2800" spc="-1" strike="noStrike">
                <a:solidFill>
                  <a:srgbClr val="ff5050"/>
                </a:solidFill>
                <a:latin typeface="Verdana"/>
              </a:rPr>
              <a:t>simpatía</a:t>
            </a: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hacia un sujeto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un chico muy simpátic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a cárcel no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necesar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- La mili no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voluntaria,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es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forzos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- Los cinturones de seguridad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son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obligatori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- Juan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aficionado al cin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- El emigrante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spaño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partidario del divorci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Cuando expresamos 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un </a:t>
            </a:r>
            <a:r>
              <a:rPr b="1" i="1" lang="es-ES" sz="2800" spc="-1" strike="noStrike">
                <a:solidFill>
                  <a:srgbClr val="ff5050"/>
                </a:solidFill>
                <a:latin typeface="Verdana"/>
              </a:rPr>
              <a:t>estado físico</a:t>
            </a: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generalmente usamos </a:t>
            </a:r>
            <a:r>
              <a:rPr b="1" i="1" lang="es-ES" sz="2800" spc="-1" strike="noStrike">
                <a:solidFill>
                  <a:srgbClr val="ff5050"/>
                </a:solidFill>
                <a:latin typeface="Verdana"/>
              </a:rPr>
              <a:t>estar</a:t>
            </a: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Hace nueve meses que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tá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nferm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- Pienso que ya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toy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buen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- No te preocupes, que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tá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muy despier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Se usa </a:t>
            </a:r>
            <a:r>
              <a:rPr b="1" i="1" lang="es-ES" sz="2800" spc="-1" strike="noStrike">
                <a:solidFill>
                  <a:srgbClr val="ff5050"/>
                </a:solidFill>
                <a:latin typeface="Verdana"/>
              </a:rPr>
              <a:t>estar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 también cuando hay un </a:t>
            </a:r>
            <a:r>
              <a:rPr b="1" i="1" lang="es-ES" sz="2800" spc="-1" strike="noStrike">
                <a:solidFill>
                  <a:srgbClr val="ff5050"/>
                </a:solidFill>
                <a:latin typeface="Verdana"/>
              </a:rPr>
              <a:t>adverbio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o </a:t>
            </a:r>
            <a:r>
              <a:rPr b="1" i="1" lang="es-ES" sz="2800" spc="-1" strike="noStrike">
                <a:solidFill>
                  <a:srgbClr val="ff5050"/>
                </a:solidFill>
                <a:latin typeface="Verdana"/>
              </a:rPr>
              <a:t>locución adverbial</a:t>
            </a: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- Creo que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tán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allí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tán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muy bien avenidos, en perfecta armoní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80880" y="380880"/>
            <a:ext cx="83059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n algunos enunciados, 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el uso de </a:t>
            </a: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ser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 y </a:t>
            </a: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estar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 genera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diferentes interpretaciones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 como, por ejempl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(91)</a:t>
            </a:r>
            <a:br>
              <a:rPr sz="2800"/>
            </a:b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ciego, pero no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tá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ciego.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A veces, los manuales de gramática nos dicen, a propósito de enunciados como este, que, en realidad, el adjetivo (en este caso,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cieg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) tiene dos sentidos distintos, por lo que se justifica el uso de dos verbos distinto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Según Matte Bon el adjetivo siempre es el mismo, y que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si cambia la interpretación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 que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damos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 de él, esto depende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xclusivamente del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uso de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ser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 o de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tar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Decimos qu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5050"/>
                </a:solidFill>
                <a:latin typeface="Tahoma"/>
              </a:rPr>
              <a:t>Ser/estar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traducen el italiano </a:t>
            </a:r>
            <a:r>
              <a:rPr b="0" lang="es-ES" sz="3200" spc="-1" strike="noStrike">
                <a:solidFill>
                  <a:srgbClr val="ff5050"/>
                </a:solidFill>
                <a:latin typeface="Tahoma"/>
              </a:rPr>
              <a:t>esse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5050"/>
                </a:solidFill>
                <a:latin typeface="Tahoma"/>
              </a:rPr>
              <a:t>haber/estar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traducen : </a:t>
            </a:r>
            <a:r>
              <a:rPr b="0" lang="es-ES" sz="3200" spc="-1" strike="noStrike">
                <a:solidFill>
                  <a:srgbClr val="ff5050"/>
                </a:solidFill>
                <a:latin typeface="Tahoma"/>
              </a:rPr>
              <a:t>c’è/ci sono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n el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primer cas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, se está describiendo un dato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objetiv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: el personaje es invide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n el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segundo cas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, el uso de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tar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implica necesariamente una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valoración personal del hablant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Al usar </a:t>
            </a: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estar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el hablante señala a su interlocutor que está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responsabilizándose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 de lo que dice, que es algo que le pertenec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28240" y="68544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n otros contextos es perfectamente posible el uso de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cieg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con el verbo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tar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92)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A.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¿Me pasas ese libro?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B.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¿Qué libro? No veo ningún libro.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A.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Ese que tienes ahí delante.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B.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¿Dónde?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A.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Ahí, ¿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tá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ciego, no lo ves?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n un contexto como este, el uso de </a:t>
            </a:r>
            <a:r>
              <a:rPr b="1" i="1" lang="es-ES" sz="2800" spc="-1" strike="noStrike">
                <a:solidFill>
                  <a:srgbClr val="ff5050"/>
                </a:solidFill>
                <a:latin typeface="Verdana"/>
              </a:rPr>
              <a:t>estar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 expresa toda la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subjetividad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 del enunciador (incredulidad, sorpresa, enfado, etc.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Continuemos analizando los diferentes sentidos de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ser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y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estar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Veamos estos dos enunciad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En España la fruta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muy buen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En España la fruta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tá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buenísima.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stos dos enunciados pueden ser proferidos por una persona que se encuentra en el extranjero desde hace varios años y que no ha tenido ningún contacto reciente con España: esa era la situación del enunciador al que oímos proferir el segundo de estos enunciad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228240" y="4572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a explicación tradicional, según la cual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estar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se usaría para expresar propiedades momentáneas, según Matte Bon se revela aquí inadecuad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a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diferencia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 entre estos dos enunciados radica exclusivamente en la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actitud adoptada por el enunciador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Con el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primer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no se compromete,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no se responsabiliza de lo que está diciendo;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con el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segundo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, presenta lo que dice como algo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respaldado por su experiencia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personal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5050"/>
                </a:solidFill>
                <a:latin typeface="Tahoma"/>
              </a:rPr>
              <a:t>Ser y estar </a:t>
            </a:r>
            <a:r>
              <a:rPr b="1" lang="es-ES" sz="3200" spc="-1" strike="noStrike">
                <a:solidFill>
                  <a:srgbClr val="ff5050"/>
                </a:solidFill>
                <a:latin typeface="Tahoma"/>
              </a:rPr>
              <a:t>con </a:t>
            </a:r>
            <a:r>
              <a:rPr b="1" i="1" lang="es-ES" sz="3200" spc="-1" strike="noStrike">
                <a:solidFill>
                  <a:srgbClr val="ff5050"/>
                </a:solidFill>
                <a:latin typeface="Tahoma"/>
              </a:rPr>
              <a:t>gerundio y participi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on un </a:t>
            </a:r>
            <a:r>
              <a:rPr b="1" lang="es-ES" sz="3200" spc="-1" strike="noStrike">
                <a:solidFill>
                  <a:srgbClr val="ff5050"/>
                </a:solidFill>
                <a:latin typeface="Tahoma"/>
              </a:rPr>
              <a:t>gerundio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es posible sólo el uso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de </a:t>
            </a:r>
            <a:r>
              <a:rPr b="1" i="1" lang="es-ES" sz="3200" spc="-1" strike="noStrike">
                <a:solidFill>
                  <a:srgbClr val="ff5050"/>
                </a:solidFill>
                <a:latin typeface="Tahoma"/>
              </a:rPr>
              <a:t>estar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(formas progresiv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s)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Está comiendo un helado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on un </a:t>
            </a:r>
            <a:r>
              <a:rPr b="1" lang="es-ES" sz="3200" spc="-1" strike="noStrike">
                <a:solidFill>
                  <a:srgbClr val="ff5050"/>
                </a:solidFill>
                <a:latin typeface="Tahoma"/>
              </a:rPr>
              <a:t>participio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s-ES" sz="3200" spc="-1" strike="noStrike">
                <a:solidFill>
                  <a:srgbClr val="ff5050"/>
                </a:solidFill>
                <a:latin typeface="Tahoma"/>
              </a:rPr>
              <a:t>ser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hace referencia a una </a:t>
            </a:r>
            <a:r>
              <a:rPr b="1" i="1" lang="es-ES" sz="3200" spc="-1" strike="noStrike">
                <a:solidFill>
                  <a:srgbClr val="ff5050"/>
                </a:solidFill>
                <a:latin typeface="Tahoma"/>
              </a:rPr>
              <a:t>ac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5050"/>
                </a:solidFill>
                <a:latin typeface="Tahoma"/>
              </a:rPr>
              <a:t>estar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hace referencia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al </a:t>
            </a:r>
            <a:r>
              <a:rPr b="1" i="1" lang="es-ES" sz="3200" spc="-1" strike="noStrike">
                <a:solidFill>
                  <a:srgbClr val="ff5050"/>
                </a:solidFill>
                <a:latin typeface="Tahoma"/>
              </a:rPr>
              <a:t>resultado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de una </a:t>
            </a:r>
            <a:r>
              <a:rPr b="1" lang="es-ES" sz="3200" spc="-1" strike="noStrike">
                <a:solidFill>
                  <a:srgbClr val="ff5050"/>
                </a:solidFill>
                <a:latin typeface="Tahoma"/>
              </a:rPr>
              <a:t>acción anterior, acabada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No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suele expresarse el </a:t>
            </a:r>
            <a:r>
              <a:rPr b="1" lang="es-ES" sz="3200" spc="-1" strike="noStrike">
                <a:solidFill>
                  <a:srgbClr val="ff5050"/>
                </a:solidFill>
                <a:latin typeface="Tahoma"/>
              </a:rPr>
              <a:t>agente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y el </a:t>
            </a:r>
            <a:r>
              <a:rPr b="1" lang="es-ES" sz="3200" spc="-1" strike="noStrike">
                <a:solidFill>
                  <a:srgbClr val="ff5050"/>
                </a:solidFill>
                <a:latin typeface="Tahoma"/>
              </a:rPr>
              <a:t>participio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es usado como </a:t>
            </a:r>
            <a:r>
              <a:rPr b="1" lang="es-ES" sz="3200" spc="-1" strike="noStrike">
                <a:solidFill>
                  <a:srgbClr val="ff5050"/>
                </a:solidFill>
                <a:latin typeface="Tahoma"/>
              </a:rPr>
              <a:t>adjetivo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concordando en género y en número con el sujet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228240" y="30456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Notemos la diferencia entre las dos fras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as casas </a:t>
            </a:r>
            <a:r>
              <a:rPr b="0" i="1" lang="es-ES" sz="3200" spc="-1" strike="noStrike">
                <a:solidFill>
                  <a:srgbClr val="ff5050"/>
                </a:solidFill>
                <a:latin typeface="Tahoma"/>
              </a:rPr>
              <a:t>eran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dificadas con mucho cuid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as casas </a:t>
            </a:r>
            <a:r>
              <a:rPr b="0" i="1" lang="es-ES" sz="3200" spc="-1" strike="noStrike">
                <a:solidFill>
                  <a:srgbClr val="ff5050"/>
                </a:solidFill>
                <a:latin typeface="Tahoma"/>
              </a:rPr>
              <a:t>estaban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dificadas con mucho cuidado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n el primer caso </a:t>
            </a:r>
            <a:r>
              <a:rPr b="1" i="1" lang="es-ES" sz="3200" spc="-1" strike="noStrike">
                <a:solidFill>
                  <a:srgbClr val="ff5050"/>
                </a:solidFill>
                <a:latin typeface="Tahoma"/>
              </a:rPr>
              <a:t>eran edificadas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alude al momento de su construcción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n cambio </a:t>
            </a:r>
            <a:r>
              <a:rPr b="1" i="1" lang="es-ES" sz="3200" spc="-1" strike="noStrike">
                <a:solidFill>
                  <a:srgbClr val="ff5050"/>
                </a:solidFill>
                <a:latin typeface="Tahoma"/>
              </a:rPr>
              <a:t>estaban edificadas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se dice desde el momento en que su construcción fue concluid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04560" y="380880"/>
            <a:ext cx="83818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5050"/>
                </a:solidFill>
                <a:latin typeface="Verdana"/>
                <a:ea typeface="Verdana"/>
              </a:rPr>
              <a:t>estar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es más frecuente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 c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on los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  <a:ea typeface="Verdana"/>
              </a:rPr>
              <a:t>participios de verbos perfectivos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porque se sienten más 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próximos a la acción verbal que los produce: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  <a:ea typeface="Verdana"/>
              </a:rPr>
              <a:t>estar herido, fastidiado, cansado, escrito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Con </a:t>
            </a:r>
            <a:r>
              <a:rPr b="1" i="1" lang="es-ES" sz="2800" spc="-1" strike="noStrike">
                <a:solidFill>
                  <a:srgbClr val="ff5050"/>
                </a:solidFill>
                <a:latin typeface="Verdana"/>
                <a:ea typeface="Verdana"/>
              </a:rPr>
              <a:t>ser</a:t>
            </a:r>
            <a:r>
              <a:rPr b="1" i="1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, 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los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  <a:ea typeface="Verdana"/>
              </a:rPr>
              <a:t>participios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 de los verbos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  <a:ea typeface="Verdana"/>
              </a:rPr>
              <a:t>imperfectivos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 toman sentido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  <a:ea typeface="Verdana"/>
              </a:rPr>
              <a:t>pasiv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5050"/>
                </a:solidFill>
                <a:latin typeface="Verdana"/>
                <a:ea typeface="Verdana"/>
              </a:rPr>
              <a:t>ser querido, aborrecido, estim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en este caso se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  <a:ea typeface="Verdana"/>
              </a:rPr>
              <a:t>pierde el sentido perfectivo del participo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  <a:ea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Practicamos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Mi amigo   </a:t>
            </a:r>
            <a:r>
              <a:rPr b="1" i="1" lang="en-US" sz="2800" spc="-1" strike="noStrike">
                <a:solidFill>
                  <a:srgbClr val="ff0000"/>
                </a:solidFill>
                <a:latin typeface="Verdana"/>
              </a:rPr>
              <a:t>es  está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   de la República Dominican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- ¿La mesa </a:t>
            </a:r>
            <a:r>
              <a:rPr b="1" i="1" lang="es-ES" sz="2800" spc="-1" strike="noStrike">
                <a:solidFill>
                  <a:srgbClr val="ff5050"/>
                </a:solidFill>
                <a:latin typeface="Verdana"/>
              </a:rPr>
              <a:t>es/está </a:t>
            </a: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de madera? No, es de fórm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- ¿De quién </a:t>
            </a:r>
            <a:r>
              <a:rPr b="1" i="1" lang="es-ES" sz="2800" spc="-1" strike="noStrike">
                <a:solidFill>
                  <a:srgbClr val="ff5050"/>
                </a:solidFill>
                <a:latin typeface="Verdana"/>
              </a:rPr>
              <a:t>es/está</a:t>
            </a: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 ? </a:t>
            </a:r>
            <a:r>
              <a:rPr b="1" i="1" lang="es-ES" sz="2800" spc="-1" strike="noStrike">
                <a:solidFill>
                  <a:srgbClr val="ff5050"/>
                </a:solidFill>
                <a:latin typeface="Verdana"/>
              </a:rPr>
              <a:t>Es/está</a:t>
            </a: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  de la mamá de Antoni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5050"/>
                </a:solidFill>
                <a:latin typeface="Verdana"/>
              </a:rPr>
              <a:t>Soy/estoy</a:t>
            </a: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 de luto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Son/están </a:t>
            </a:r>
            <a:r>
              <a:rPr b="1" i="1" lang="es-ES" sz="2800" spc="-1" strike="noStrike">
                <a:solidFill>
                  <a:srgbClr val="ff5050"/>
                </a:solidFill>
                <a:latin typeface="Verdana"/>
              </a:rPr>
              <a:t>de viaje</a:t>
            </a:r>
            <a:r>
              <a:rPr b="1" lang="it-IT" sz="2800" spc="-1" strike="noStrike">
                <a:solidFill>
                  <a:srgbClr val="ff505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os libros   </a:t>
            </a:r>
            <a:r>
              <a:rPr b="1" i="1" lang="en-US" sz="2800" spc="-1" strike="noStrike">
                <a:solidFill>
                  <a:srgbClr val="ff0000"/>
                </a:solidFill>
                <a:latin typeface="Verdana"/>
              </a:rPr>
              <a:t>son / están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de la profesora nue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04560" y="380880"/>
            <a:ext cx="83818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La clase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Verdana"/>
                <a:ea typeface="Verdana"/>
              </a:rPr>
              <a:t>es /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Verdana"/>
              </a:rPr>
              <a:t> está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a las o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¿Dónde </a:t>
            </a:r>
            <a:r>
              <a:rPr b="1" lang="en-US" sz="2800" spc="-1" strike="noStrike">
                <a:solidFill>
                  <a:srgbClr val="ff5050"/>
                </a:solidFill>
                <a:latin typeface="Verdana"/>
                <a:ea typeface="Verdana"/>
              </a:rPr>
              <a:t>sois/</a:t>
            </a:r>
            <a:r>
              <a:rPr b="1" i="1" lang="en-US" sz="2800" spc="-1" strike="noStrike" u="sng">
                <a:solidFill>
                  <a:srgbClr val="ff5050"/>
                </a:solidFill>
                <a:uFillTx/>
                <a:latin typeface="Verdana"/>
                <a:ea typeface="Verdana"/>
              </a:rPr>
              <a:t>estáis</a:t>
            </a:r>
            <a:r>
              <a:rPr b="1" lang="en-US" sz="2800" spc="-1" strike="noStrike">
                <a:solidFill>
                  <a:srgbClr val="ff5050"/>
                </a:solidFill>
                <a:latin typeface="Verdana"/>
                <a:ea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vosotro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El teléfono </a:t>
            </a:r>
            <a:r>
              <a:rPr b="1" lang="en-US" sz="2800" spc="-1" strike="noStrike">
                <a:solidFill>
                  <a:srgbClr val="ff5050"/>
                </a:solidFill>
                <a:latin typeface="Verdana"/>
                <a:ea typeface="Verdana"/>
              </a:rPr>
              <a:t>es/</a:t>
            </a:r>
            <a:r>
              <a:rPr b="1" i="1" lang="en-US" sz="2800" spc="-1" strike="noStrike" u="sng">
                <a:solidFill>
                  <a:srgbClr val="ff5050"/>
                </a:solidFill>
                <a:uFillTx/>
                <a:latin typeface="Verdana"/>
                <a:ea typeface="Verdana"/>
              </a:rPr>
              <a:t>está</a:t>
            </a:r>
            <a:r>
              <a:rPr b="1" lang="en-US" sz="2800" spc="-1" strike="noStrike">
                <a:solidFill>
                  <a:srgbClr val="ff5050"/>
                </a:solidFill>
                <a:latin typeface="Verdana"/>
                <a:ea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libre ahor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Mateo siempre </a:t>
            </a:r>
            <a:r>
              <a:rPr b="1" lang="en-US" sz="2800" spc="-1" strike="noStrike">
                <a:solidFill>
                  <a:srgbClr val="ff5050"/>
                </a:solidFill>
                <a:latin typeface="Verdana"/>
                <a:ea typeface="Verdana"/>
              </a:rPr>
              <a:t>es/ </a:t>
            </a:r>
            <a:r>
              <a:rPr b="1" i="1" lang="en-US" sz="2800" spc="-1" strike="noStrike" u="sng">
                <a:solidFill>
                  <a:srgbClr val="ff5050"/>
                </a:solidFill>
                <a:uFillTx/>
                <a:latin typeface="Verdana"/>
                <a:ea typeface="Verdana"/>
              </a:rPr>
              <a:t>est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 conten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Tu hermana </a:t>
            </a:r>
            <a:r>
              <a:rPr b="1" lang="en-US" sz="2800" spc="-1" strike="noStrike">
                <a:solidFill>
                  <a:srgbClr val="ff5050"/>
                </a:solidFill>
                <a:latin typeface="Verdana"/>
                <a:ea typeface="Verdana"/>
              </a:rPr>
              <a:t>es/</a:t>
            </a:r>
            <a:r>
              <a:rPr b="1" i="1" lang="en-US" sz="2800" spc="-1" strike="noStrike" u="sng">
                <a:solidFill>
                  <a:srgbClr val="ff5050"/>
                </a:solidFill>
                <a:uFillTx/>
                <a:latin typeface="Verdana"/>
                <a:ea typeface="Verdana"/>
              </a:rPr>
              <a:t>est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 bonita ho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Los profesores   </a:t>
            </a:r>
            <a:r>
              <a:rPr b="1" i="1" lang="en-US" sz="2800" spc="-1" strike="noStrike">
                <a:solidFill>
                  <a:srgbClr val="ff0000"/>
                </a:solidFill>
                <a:latin typeface="Verdana"/>
                <a:ea typeface="Verdana"/>
              </a:rPr>
              <a:t>son / están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   apurad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La fiesta </a:t>
            </a:r>
            <a:r>
              <a:rPr b="1" i="1" lang="en-US" sz="2800" spc="-1" strike="noStrike" u="sng">
                <a:solidFill>
                  <a:srgbClr val="ff5050"/>
                </a:solidFill>
                <a:uFillTx/>
                <a:latin typeface="Verdana"/>
                <a:ea typeface="Verdana"/>
              </a:rPr>
              <a:t>es/est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 en mi cas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Los conciertos </a:t>
            </a:r>
            <a:r>
              <a:rPr b="1" i="1" lang="en-US" sz="2800" spc="-1" strike="noStrike" u="sng">
                <a:solidFill>
                  <a:srgbClr val="ff5050"/>
                </a:solidFill>
                <a:uFillTx/>
                <a:latin typeface="Verdana"/>
                <a:ea typeface="Verdana"/>
              </a:rPr>
              <a:t>son/están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 en el parqu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5050"/>
                </a:solidFill>
                <a:latin typeface="Verdana"/>
              </a:rPr>
              <a:t>CONTRASTE SER/EST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a gramática tradicional present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5050"/>
                </a:solidFill>
                <a:uFillTx/>
                <a:latin typeface="Verdana"/>
              </a:rPr>
              <a:t>estar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como la definición de lo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momentáne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y </a:t>
            </a:r>
            <a:r>
              <a:rPr b="0" lang="es-ES" sz="2800" spc="-1" strike="noStrike" u="sng">
                <a:solidFill>
                  <a:srgbClr val="ff5050"/>
                </a:solidFill>
                <a:uFillTx/>
                <a:latin typeface="Verdana"/>
              </a:rPr>
              <a:t>ser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de lo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permanente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y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estable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Según Matte Bon esta oposición define sólo parcialmente el problema que es mejor presentar de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manera func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80880" y="45720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Marcos y Elena </a:t>
            </a:r>
            <a:r>
              <a:rPr b="1" i="1" lang="en-US" sz="2800" spc="-1" strike="noStrike">
                <a:solidFill>
                  <a:srgbClr val="ff5050"/>
                </a:solidFill>
                <a:latin typeface="Verdana"/>
                <a:ea typeface="Verdana"/>
              </a:rPr>
              <a:t>son/están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nervios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¿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Quiénes   </a:t>
            </a:r>
            <a:r>
              <a:rPr b="1" i="1" lang="en-US" sz="2800" spc="-1" strike="noStrike">
                <a:solidFill>
                  <a:srgbClr val="ff0000"/>
                </a:solidFill>
                <a:latin typeface="Verdana"/>
                <a:ea typeface="Verdana"/>
              </a:rPr>
              <a:t>son / están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   los estudiantes nuevo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El pupitre </a:t>
            </a:r>
            <a:r>
              <a:rPr b="1" i="1" lang="en-US" sz="2800" spc="-1" strike="noStrike" u="sng">
                <a:solidFill>
                  <a:srgbClr val="ff5050"/>
                </a:solidFill>
                <a:uFillTx/>
                <a:latin typeface="Verdana"/>
                <a:ea typeface="Verdana"/>
              </a:rPr>
              <a:t>es/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Verdana"/>
                <a:ea typeface="Verdana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Verdana"/>
                <a:ea typeface="Verdana"/>
              </a:rPr>
              <a:t>est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 de metal y plást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El pescado </a:t>
            </a:r>
            <a:r>
              <a:rPr b="1" i="1" lang="en-US" sz="2800" spc="-1" strike="noStrike" u="sng">
                <a:solidFill>
                  <a:srgbClr val="ff5050"/>
                </a:solidFill>
                <a:uFillTx/>
                <a:latin typeface="Verdana"/>
                <a:ea typeface="Verdana"/>
              </a:rPr>
              <a:t>es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Verdana"/>
                <a:ea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/</a:t>
            </a:r>
            <a:r>
              <a:rPr b="1" i="1" lang="en-US" sz="2800" spc="-1" strike="noStrike" u="sng">
                <a:solidFill>
                  <a:srgbClr val="ff5050"/>
                </a:solidFill>
                <a:uFillTx/>
                <a:latin typeface="Verdana"/>
                <a:ea typeface="Verdana"/>
              </a:rPr>
              <a:t>est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 muy buen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El Sr. Sanchez </a:t>
            </a:r>
            <a:r>
              <a:rPr b="1" i="1" lang="en-US" sz="2800" spc="-1" strike="noStrike" u="sng">
                <a:solidFill>
                  <a:srgbClr val="ff5050"/>
                </a:solidFill>
                <a:uFillTx/>
                <a:latin typeface="Verdana"/>
                <a:ea typeface="Verdana"/>
              </a:rPr>
              <a:t>es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Verdana"/>
                <a:ea typeface="Verdana"/>
              </a:rPr>
              <a:t> /</a:t>
            </a:r>
            <a:r>
              <a:rPr b="1" i="1" lang="en-US" sz="2800" spc="-1" strike="noStrike" u="sng">
                <a:solidFill>
                  <a:srgbClr val="ff5050"/>
                </a:solidFill>
                <a:uFillTx/>
                <a:latin typeface="Verdana"/>
                <a:ea typeface="Verdana"/>
              </a:rPr>
              <a:t>est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 joven cuando juega al fútbo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Mi madre siempre   </a:t>
            </a:r>
            <a:r>
              <a:rPr b="1" i="1" lang="en-US" sz="2800" spc="-1" strike="noStrike">
                <a:solidFill>
                  <a:srgbClr val="ff0000"/>
                </a:solidFill>
                <a:latin typeface="Verdana"/>
                <a:ea typeface="Verdana"/>
              </a:rPr>
              <a:t>es   /   est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   ocupa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0456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Usamos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Ser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 para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5050"/>
                </a:solidFill>
                <a:uFillTx/>
                <a:latin typeface="Verdana"/>
              </a:rPr>
              <a:t>identificar o definir alg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El carbón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negro – Este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Albert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n estos usos , a veces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ser concuerda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con el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complemento predicativo y no con el sujet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Mi sueldo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son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sólo 800 euros al me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5050"/>
                </a:solidFill>
                <a:uFillTx/>
                <a:latin typeface="Verdana"/>
              </a:rPr>
              <a:t>hablar de orígen , nacionalidad o procedencia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Verdana"/>
              </a:rPr>
              <a:t> de algo o alguien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Martín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colombiano – Estos toros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son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de una granja en Valladol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5050"/>
                </a:solidFill>
                <a:uFillTx/>
                <a:latin typeface="Verdana"/>
              </a:rPr>
              <a:t>informar de la profesión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médico).  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Sin embargo cuando se habla de una actividad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temporal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se usa </a:t>
            </a:r>
            <a:r>
              <a:rPr b="0" lang="es-ES" sz="2800" spc="-1" strike="noStrike" u="sng">
                <a:solidFill>
                  <a:srgbClr val="ff5050"/>
                </a:solidFill>
                <a:uFillTx/>
                <a:latin typeface="Verdana"/>
              </a:rPr>
              <a:t>estar de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(en estos días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toy de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camarero en un bar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Además cuando se subraya que una actividad no corresponde a la profesión principal del sujeto  se usa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hacer de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Como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hace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con el niño en julio? Mi madre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hará de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canguro por las mañana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5050"/>
                </a:solidFill>
                <a:uFillTx/>
                <a:latin typeface="Verdana"/>
              </a:rPr>
              <a:t>informar sobre el material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de lana, de pana, de algodo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para dar la coordenadas espaciales y temporales de algún acontecimien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(Las elecciones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fueron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en 1991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au</cp:lastModifiedBy>
  <dcterms:modified xsi:type="dcterms:W3CDTF">2011-11-30T14:51:49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